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6F2-9441-4171-9949-29543D8A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7A2-43AF-4C34-BFEC-D8FD6677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67D-7ABC-4DD0-9041-D15AE987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D88-DCC5-4665-9B60-950CBE3B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9E7-2C39-4A9F-A935-51C96635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A74-1602-4599-AAA7-C7F67DA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E6F-433F-4E66-B19F-9437435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B56-3826-4492-9A45-296618C4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035-2B63-45AB-BF1F-0E9ABC83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8CF-98D6-4224-AF8B-BE3820E0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6A2-7965-419B-BE48-4E0E808D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EB1-85F5-4CE1-92B4-F5D2B14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0D17-E5E0-4254-BC43-35D9BB518B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29:37Z</dcterms:modified>
  <cp:revision>377</cp:revision>
  <dc:subject/>
  <dc:title>Diapositiva 1</dc:title>
</cp:coreProperties>
</file>